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557-DFC5-4709-A689-ECD85419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7FC-9ED7-4661-9022-C442F35B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854-B8C5-4B4B-8EC4-C6B7E2E1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331-5D78-4FE0-8BB8-0CF77702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0C56-C581-4C00-8C0A-EB6DFB1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3503-3F4F-4BF5-835A-BF60D50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84B6-CB08-4AB0-93C5-6D66EFE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0C00-B4FF-464C-B861-DFD49749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09DE-6451-4CFF-9E39-A995ADAD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4363-92F5-4863-9253-2C95E62D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575F-423B-480F-A544-9FE61355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E9E-6F57-4EEE-9310-70577CE4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D8DF-7542-418B-9674-F27E489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36B9-EFED-424A-86DA-E04975D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E142-F30D-4AFA-AA86-045A92B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5667-FB1B-4CFB-8A10-08AE79A7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C735-963A-4170-B06B-40F8B8E9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817-8392-4FDB-AE12-CDE4E9D0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396-4CCC-42C0-8CC2-F05407D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529-4F2A-4BC8-8EC9-8FC055F6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0FC-FC37-4AF8-89D2-8EF5692C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FB5-B609-45D5-9F73-83AE184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5BF-CE8C-4480-AACE-4A473803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B58-310F-48BC-A94B-44AC921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CE4-9E55-46A2-AEDB-9866ECE4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3B6-2C62-4110-B270-B22C24AA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lejandrofol.wikispaces.com/" TargetMode="External"/><Relationship Id="rId2" Type="http://schemas.openxmlformats.org/officeDocument/2006/relationships/hyperlink" Target="http://alejandrofol.wikispaces.com/" TargetMode="External"/><Relationship Id="rId3" Type="http://schemas.openxmlformats.org/officeDocument/2006/relationships/hyperlink" Target="http://alejandrofol.wikispaces.com/" TargetMode="External"/><Relationship Id="rId4" Type="http://schemas.openxmlformats.org/officeDocument/2006/relationships/hyperlink" Target="http://alejandrofol.wikispaces.com/" TargetMode="External"/><Relationship Id="rId5" Type="http://schemas.openxmlformats.org/officeDocument/2006/relationships/hyperlink" Target="http://alejandrofol.wikispaces.com/" TargetMode="External"/><Relationship Id="rId6" Type="http://schemas.openxmlformats.org/officeDocument/2006/relationships/hyperlink" Target="http://alejandrofol.wikispaces.com/" TargetMode="External"/><Relationship Id="rId7" Type="http://schemas.openxmlformats.org/officeDocument/2006/relationships/hyperlink" Target="http://alejandrofol.wikispaces.com/" TargetMode="External"/><Relationship Id="rId8" Type="http://schemas.openxmlformats.org/officeDocument/2006/relationships/hyperlink" Target="http://isabelgonzalezagcp.wikispaces.com/" TargetMode="External"/><Relationship Id="rId9" Type="http://schemas.openxmlformats.org/officeDocument/2006/relationships/hyperlink" Target="http://isabelgonzalezagcp.wikispaces.com/" TargetMode="External"/><Relationship Id="rId10" Type="http://schemas.openxmlformats.org/officeDocument/2006/relationships/hyperlink" Target="http://isabelgonzalezagcp.wikispaces.com/" TargetMode="External"/><Relationship Id="rId11" Type="http://schemas.openxmlformats.org/officeDocument/2006/relationships/hyperlink" Target="http://isabelgonzalezagcp.wikispaces.com/" TargetMode="External"/><Relationship Id="rId12" Type="http://schemas.openxmlformats.org/officeDocument/2006/relationships/hyperlink" Target="http://isabelgonzalezagcp.wikispaces.com/" TargetMode="External"/><Relationship Id="rId13" Type="http://schemas.openxmlformats.org/officeDocument/2006/relationships/hyperlink" Target="http://isabelgonzalezagcp.wikispaces.com/" TargetMode="External"/><Relationship Id="rId14" Type="http://schemas.openxmlformats.org/officeDocument/2006/relationships/hyperlink" Target="http://isabelgonzalezagcp.wikispaces.com/" TargetMode="External"/><Relationship Id="rId15" Type="http://schemas.openxmlformats.org/officeDocument/2006/relationships/hyperlink" Target="http://ret.wikispaces.com/" TargetMode="External"/><Relationship Id="rId16" Type="http://schemas.openxmlformats.org/officeDocument/2006/relationships/hyperlink" Target="http://ret.wikispaces.com/" TargetMode="External"/><Relationship Id="rId17" Type="http://schemas.openxmlformats.org/officeDocument/2006/relationships/hyperlink" Target="http://ret.wikispaces.com/" TargetMode="External"/><Relationship Id="rId18" Type="http://schemas.openxmlformats.org/officeDocument/2006/relationships/hyperlink" Target="http://ret.wikispaces.com/" TargetMode="External"/><Relationship Id="rId19" Type="http://schemas.openxmlformats.org/officeDocument/2006/relationships/hyperlink" Target="http://ret.wikispaces.com/" TargetMode="External"/><Relationship Id="rId20" Type="http://schemas.openxmlformats.org/officeDocument/2006/relationships/hyperlink" Target="http://ret.wikispaces.com/" TargetMode="External"/><Relationship Id="rId21" Type="http://schemas.openxmlformats.org/officeDocument/2006/relationships/hyperlink" Target="http://ret.wikispaces.com/" TargetMode="External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pis.wikispaces.com/" TargetMode="External"/><Relationship Id="rId2" Type="http://schemas.openxmlformats.org/officeDocument/2006/relationships/hyperlink" Target="http://epis.wikispaces.com/" TargetMode="External"/><Relationship Id="rId3" Type="http://schemas.openxmlformats.org/officeDocument/2006/relationships/hyperlink" Target="http://epis.wikispaces.com/" TargetMode="External"/><Relationship Id="rId4" Type="http://schemas.openxmlformats.org/officeDocument/2006/relationships/hyperlink" Target="http://epis.wikispaces.com/" TargetMode="External"/><Relationship Id="rId5" Type="http://schemas.openxmlformats.org/officeDocument/2006/relationships/hyperlink" Target="http://epis.wikispaces.com/" TargetMode="External"/><Relationship Id="rId6" Type="http://schemas.openxmlformats.org/officeDocument/2006/relationships/hyperlink" Target="http://epis.wikispaces.com/" TargetMode="External"/><Relationship Id="rId7" Type="http://schemas.openxmlformats.org/officeDocument/2006/relationships/hyperlink" Target="http://epis.wikispaces.com/" TargetMode="External"/><Relationship Id="rId8" Type="http://schemas.openxmlformats.org/officeDocument/2006/relationships/hyperlink" Target="http://epis.wikispaces.com/equipos+de+protecci&#243;n+individual" TargetMode="External"/><Relationship Id="rId9" Type="http://schemas.openxmlformats.org/officeDocument/2006/relationships/hyperlink" Target="http://epis.wikispaces.com/EPI" TargetMode="External"/><Relationship Id="rId10" Type="http://schemas.openxmlformats.org/officeDocument/2006/relationships/hyperlink" Target="http://epis.wikispaces.com/Seguridad+en+las+instalaciones+de+telecomunicaci&#243;n+e+inform&#225;tica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55760" y="727200"/>
            <a:ext cx="748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WIKISPACES PARA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www.wikispaces.com/site/for/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28600"/>
            <a:ext cx="792468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2222"/>
                </a:solidFill>
                <a:latin typeface="Lucida Sans Unicode"/>
              </a:rPr>
              <a:t>EXPERIENCIAS EN FORMACIÓN PROFESIONAL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"/>
              </a:rPr>
              <a:t>alejandrofol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3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4"/>
              </a:rPr>
              <a:t>wikispaces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5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6"/>
              </a:rPr>
              <a:t>com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7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wiki de ayuda a los alumnos que cursen el módulo de FOL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astantes contenidos publicados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: unidades y documentos (cartas, entrevistas de trabajo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Enlace a wikis para grupos de 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8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9"/>
              </a:rPr>
              <a:t>isabelgonzalezagcp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0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1"/>
              </a:rPr>
              <a:t>wikispaces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2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3"/>
              </a:rPr>
              <a:t>com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4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Creación de un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mpresa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, Isabel González profesora de F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5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6"/>
              </a:rPr>
              <a:t>ret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7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8"/>
              </a:rPr>
              <a:t>wikispaces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9"/>
              </a:rPr>
              <a:t>.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0"/>
              </a:rPr>
              <a:t>com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1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Proyecto de utilización del wiki para el desarrollo de la materia de Relaciones en el Entorno de Trabajo (RET) en ciclos formativos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rabajos colaborativos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 de alumnos en blogs y wik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380880"/>
            <a:ext cx="8077320" cy="69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EXPERIENCIAS EN FORMACIÓN PROFESIONAL    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2"/>
              </a:rPr>
              <a:t>epis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3"/>
              </a:rPr>
              <a:t>.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4"/>
              </a:rPr>
              <a:t>wikispaces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5"/>
              </a:rPr>
              <a:t>.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6"/>
              </a:rPr>
              <a:t>com</a:t>
            </a:r>
            <a:r>
              <a:rPr b="0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7"/>
              </a:rPr>
              <a:t>/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 Este Wiki está planteado como un espacio donde se organizarán y crearán los contenidos y material necesario para estudiar "Los </a:t>
            </a:r>
            <a:r>
              <a:rPr b="1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8"/>
              </a:rPr>
              <a:t>equipos de protección individual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9"/>
              </a:rPr>
              <a:t>EPI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´s)", encuadrándolos dentro del Modulo "</a:t>
            </a:r>
            <a:r>
              <a:rPr b="1" lang="es-ES" sz="2000" spc="-1" strike="noStrike" u="sng">
                <a:solidFill>
                  <a:srgbClr val="99ccff"/>
                </a:solidFill>
                <a:uFillTx/>
                <a:latin typeface="Lucida Sans Unicode"/>
                <a:ea typeface="Arial"/>
                <a:hlinkClick r:id="rId10"/>
              </a:rPr>
              <a:t>Seguridad en las instalaciones de telecomunicación e informática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" del Ciclo formativo SISTEMAS DE TELECOMUNICACIONES E INFORMÁT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ttp://proyecto-e.wikispaces.com/Inicio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 Proyectos empresariales de los alumnos del Ciclo Formativo de Grado Superior de Administración y Finanzas.IES Luis de Morales. Arroyo de la Luz (Cáceres). Profesor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Juan Pablo Medina de la Cruz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http://orientacionyempleo.wikispaces.com/ Sitio destinado a recoger información y recursos para la orientación e insercción profesional de l@s alumn@s del 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IES Laguna de Joatzel</a:t>
            </a: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. Profesora Lourdes Barros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Blog     Youtub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lataforma de trabajo es la propia página web (no es necesario tener instalado un software cliente en el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ón 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consul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09480"/>
            <a:ext cx="762012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as razones para us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permite construir de manera fácil y colaborativa, espacios en Internet tan simples o complejos como necesitemos sin tener conocimientos de diseño de páginas Web. Su facilidad de uso es increíble, una página se crea en cuestión de pocos minutos siendo inmediata la obtención y visualización de resul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ibilidad de incluir con gran facilidad todo tipo de elementos multimedia  (audio. imágenes, calendarios, vídeos, presentaciones, animacione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operativo no importa sabiendo manejar cualquier navegador   construyo mi espacio , trabajamos directamente sobre el servidor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cesidad de usar programas de F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Wikispaces-logo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296064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00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stión de archivos es transparente para el usuario ,no hay que estar pendiente de rutas absolutas ni relativas, ni de recrear la estructura de directorios en el servidor a semejanza de la de nuestro disco duro como hacemos en el diseño Web tra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plataforma segura. Se pueden crear distintos permisos de acceso a zonas y páginas. Permite seguir los cambios vía 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bilidad de hacer una copia de seguridad del contenido del wiki y de todos los archivos que subamos al mismo ( 2 Gigas de espa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ikispaces-logo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29606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09-03-26T12:16:40Z</dcterms:modified>
  <cp:revision>12</cp:revision>
  <dc:subject/>
  <dc:title>Presentación de PowerPoint</dc:title>
</cp:coreProperties>
</file>